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F4DA-7670-4187-BF28-7C331AB6C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413A-5876-4B3D-B1CA-4EF0B34E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C292-56B5-494D-B6CD-EDC7A608B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AFD7-B20F-47EC-81EF-5691604E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0FA7-BED2-44F1-8962-D6F1E39E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70B9-D980-4EEC-88AC-2FB1BDDA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0FBA-CE23-4999-A232-FCA8395B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C7E1-BB75-43FB-9A05-EC905CD9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80CC-2148-4E8D-98F9-7ACD53B6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75BA-10AC-4235-9BCC-894EB629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C064-4698-4CE7-BEE2-68E3A584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1BB8-5C95-49B7-9E97-88C94125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7D51-4CE8-4C4C-822F-7E2B43AE08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8" descr=""/>
          <p:cNvPicPr/>
          <p:nvPr/>
        </p:nvPicPr>
        <p:blipFill>
          <a:blip r:embed="rId1"/>
          <a:stretch/>
        </p:blipFill>
        <p:spPr>
          <a:xfrm>
            <a:off x="1652760" y="-195120"/>
            <a:ext cx="500364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1: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2:13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3:4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4:4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5:223 R:1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2286000" y="26906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: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: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: 1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H:3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2286000" y="144468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.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.1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.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5.1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6.1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.3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8.1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9.5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0 8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1.1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2.  154                            CH: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:11                     7:45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:69                     8: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:20                      9:4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:87                   10;55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5: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6: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2286000" y="26906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quare  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val      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riangle  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rapezium  cylin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23:22:35Z</dcterms:created>
  <dc:creator>Education</dc:creator>
  <dc:description/>
  <dc:language>en-US</dc:language>
  <cp:lastModifiedBy>Education</cp:lastModifiedBy>
  <dcterms:modified xsi:type="dcterms:W3CDTF">2009-07-26T23:34:46Z</dcterms:modified>
  <cp:revision>21</cp:revision>
  <dc:subject/>
  <dc:title>Slide 1</dc:title>
</cp:coreProperties>
</file>